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5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1.png" ContentType="image/png"/>
  <Override PartName="/ppt/media/image37.jpeg" ContentType="image/jpeg"/>
  <Override PartName="/ppt/media/image30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035F-CC8A-460A-8324-EC2B01E932C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A6D-1118-4636-9C0A-98EB882C77B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C09B-EE19-4844-9FE4-49B1F455793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6DBE-2A26-4FC1-835E-21375F3DD5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BEA1-7576-48B8-B884-7E6BDAFF84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AB9E-4406-4F50-A7F2-0F8DCE8875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77D1-12D0-4BDA-A703-A71CBEAC47E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ABF-8E0F-40C1-A727-1A7728BAD6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97DD-48D9-4AA5-9EB4-3023421AB6D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8C30-B26A-48DF-ADE3-62379BEBD72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DCF-2ABC-4140-B4E0-1C607F80CB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565-D986-43CC-A0B4-7FB0555142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FC30-41F0-4EC2-80FB-62CA52AC321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A93D-3502-485D-ACD6-83376BF8C7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CF03-8D50-45B3-9C17-D27EB829B3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D62F-C1C4-4CAE-B28D-AC3038977B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1142-2403-4332-A603-D69200558DA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EFBE-AE01-4387-896B-1E087150139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784D-36F5-486A-BEB4-965651A5A6E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A804-9ED1-455E-9BFB-7618890C18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A7C4-86CB-4826-B90C-C283CCA3F31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43920"/>
            <a:ext cx="8642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3920"/>
            <a:ext cx="8642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50920" y="43920"/>
            <a:ext cx="8642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43920"/>
            <a:ext cx="8642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_본문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1_본문_bar"/>
          <p:cNvPicPr/>
          <p:nvPr/>
        </p:nvPicPr>
        <p:blipFill>
          <a:blip r:embed="rId3"/>
          <a:stretch/>
        </p:blipFill>
        <p:spPr>
          <a:xfrm>
            <a:off x="0" y="0"/>
            <a:ext cx="9144000" cy="8618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6594480"/>
            <a:ext cx="9144000" cy="281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_본문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1_본문_bar"/>
          <p:cNvPicPr/>
          <p:nvPr/>
        </p:nvPicPr>
        <p:blipFill>
          <a:blip r:embed="rId3"/>
          <a:stretch/>
        </p:blipFill>
        <p:spPr>
          <a:xfrm>
            <a:off x="0" y="0"/>
            <a:ext cx="9144000" cy="861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0" y="6594480"/>
            <a:ext cx="9144000" cy="281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3-main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0" y="1844640"/>
            <a:ext cx="9144000" cy="15112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3-main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0" y="1346040"/>
            <a:ext cx="9144000" cy="1511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joengingee@korea.k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ctangle 5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1506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3824640" y="392904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옛체"/>
                <a:ea typeface="휴먼옛체"/>
              </a:rPr>
              <a:t>17 April, 2012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2786040" y="5643720"/>
            <a:ext cx="42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휴먼옛체"/>
              </a:rPr>
              <a:t>Republic of Korea</a:t>
            </a:r>
            <a:endParaRPr b="0" lang="en-US" sz="3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173" name="Group 12"/>
          <p:cNvGrpSpPr/>
          <p:nvPr/>
        </p:nvGrpSpPr>
        <p:grpSpPr>
          <a:xfrm>
            <a:off x="1730520" y="6292800"/>
            <a:ext cx="5771160" cy="451080"/>
            <a:chOff x="1730520" y="6292800"/>
            <a:chExt cx="5771160" cy="451080"/>
          </a:xfrm>
        </p:grpSpPr>
        <p:sp>
          <p:nvSpPr>
            <p:cNvPr id="174" name="Rectangle 13"/>
            <p:cNvSpPr/>
            <p:nvPr/>
          </p:nvSpPr>
          <p:spPr>
            <a:xfrm>
              <a:off x="2598120" y="637560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휴먼옛체"/>
                </a:rPr>
                <a:t>Ministry of Land, Transport and Maritime Affairs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175" name="Picture 14" descr="시그니춰-영문-상하조합-A"/>
            <p:cNvPicPr/>
            <p:nvPr/>
          </p:nvPicPr>
          <p:blipFill>
            <a:blip r:embed="rId2"/>
            <a:stretch/>
          </p:blipFill>
          <p:spPr>
            <a:xfrm>
              <a:off x="1730520" y="6292800"/>
              <a:ext cx="7966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20" descr="EMB00000e7855c6"/>
          <p:cNvPicPr/>
          <p:nvPr/>
        </p:nvPicPr>
        <p:blipFill>
          <a:blip r:embed="rId3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sp>
        <p:nvSpPr>
          <p:cNvPr id="177" name="WordArt 3"/>
          <p:cNvSpPr txBox="1"/>
          <p:nvPr/>
        </p:nvSpPr>
        <p:spPr>
          <a:xfrm>
            <a:off x="6443640" y="195120"/>
            <a:ext cx="25243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HY헤드라인M"/>
              </a:rPr>
              <a:t>EEP18/8/17</a:t>
            </a:r>
            <a:endParaRPr b="1" lang="en-US" sz="2400" spc="1" strike="noStrike">
              <a:ln w="0">
                <a:noFill/>
              </a:ln>
              <a:solidFill>
                <a:srgbClr val="ff6699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Plastic Buo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254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55"/>
          <p:cNvGrpSpPr/>
          <p:nvPr/>
        </p:nvGrpSpPr>
        <p:grpSpPr>
          <a:xfrm>
            <a:off x="250920" y="1081080"/>
            <a:ext cx="8655120" cy="536400"/>
            <a:chOff x="250920" y="1081080"/>
            <a:chExt cx="8655120" cy="536400"/>
          </a:xfrm>
        </p:grpSpPr>
        <p:pic>
          <p:nvPicPr>
            <p:cNvPr id="256" name="Picture 56" descr="바"/>
            <p:cNvPicPr/>
            <p:nvPr/>
          </p:nvPicPr>
          <p:blipFill>
            <a:blip r:embed="rId2"/>
            <a:srcRect l="1609" t="0" r="861" b="0"/>
            <a:stretch/>
          </p:blipFill>
          <p:spPr>
            <a:xfrm>
              <a:off x="250920" y="1081080"/>
              <a:ext cx="8655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57"/>
            <p:cNvSpPr/>
            <p:nvPr/>
          </p:nvSpPr>
          <p:spPr>
            <a:xfrm>
              <a:off x="1324440" y="1153800"/>
              <a:ext cx="29390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Variation of surface color 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611280" y="1714680"/>
            <a:ext cx="4667040" cy="4814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4"/>
          <a:stretch/>
        </p:blipFill>
        <p:spPr>
          <a:xfrm>
            <a:off x="5621400" y="1801800"/>
            <a:ext cx="2550960" cy="2217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5"/>
          <a:stretch/>
        </p:blipFill>
        <p:spPr>
          <a:xfrm>
            <a:off x="5621400" y="4176720"/>
            <a:ext cx="25462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16"/>
          <p:cNvGrpSpPr/>
          <p:nvPr/>
        </p:nvGrpSpPr>
        <p:grpSpPr>
          <a:xfrm>
            <a:off x="1908000" y="3357720"/>
            <a:ext cx="6408720" cy="3217680"/>
            <a:chOff x="1908000" y="3357720"/>
            <a:chExt cx="6408720" cy="3217680"/>
          </a:xfrm>
        </p:grpSpPr>
        <p:sp>
          <p:nvSpPr>
            <p:cNvPr id="264" name="AutoShape 9"/>
            <p:cNvSpPr/>
            <p:nvPr/>
          </p:nvSpPr>
          <p:spPr>
            <a:xfrm>
              <a:off x="1908000" y="3357720"/>
              <a:ext cx="6408720" cy="30708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265" name="Rectangle 15"/>
            <p:cNvSpPr/>
            <p:nvPr/>
          </p:nvSpPr>
          <p:spPr>
            <a:xfrm>
              <a:off x="2165400" y="3420360"/>
              <a:ext cx="5930640" cy="31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Jin-Gee Jeon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Maritime Traffic Facilities Division Office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of Logsitics and Maritime Affairs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Ministry of Land, Transport and Maritime Affairs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47, Gwanmun-ro, Gwacheon-City, Gyeonggi-do, 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Korea 427-712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Tel : +82-2-2110-6386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Fax : +82-2-504-4076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e-mail : </a:t>
              </a: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휴먼옛체"/>
                  <a:ea typeface="휴먼옛체"/>
                  <a:hlinkClick r:id="rId1"/>
                </a:rPr>
                <a:t>joengingee@korea.kr</a:t>
              </a:r>
              <a:endParaRPr b="0" lang="en-US" sz="20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684360" y="1514520"/>
            <a:ext cx="631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hank you very much</a:t>
            </a:r>
            <a:endParaRPr b="0" lang="en-US" sz="3600" spc="-1" strike="noStrike">
              <a:solidFill>
                <a:srgbClr val="000000"/>
              </a:solidFill>
              <a:latin typeface="휴먼옛체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for your attention!</a:t>
            </a:r>
            <a:endParaRPr b="0" lang="en-US" sz="36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GyeongIn-Ara Waterwa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179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grpSp>
        <p:nvGrpSpPr>
          <p:cNvPr id="180" name="그룹 33"/>
          <p:cNvGrpSpPr/>
          <p:nvPr/>
        </p:nvGrpSpPr>
        <p:grpSpPr>
          <a:xfrm>
            <a:off x="500040" y="1143000"/>
            <a:ext cx="8215200" cy="5286240"/>
            <a:chOff x="500040" y="1143000"/>
            <a:chExt cx="8215200" cy="5286240"/>
          </a:xfrm>
        </p:grpSpPr>
        <p:pic>
          <p:nvPicPr>
            <p:cNvPr id="181" name="Picture 32" descr=""/>
            <p:cNvPicPr/>
            <p:nvPr/>
          </p:nvPicPr>
          <p:blipFill>
            <a:blip r:embed="rId2"/>
            <a:stretch/>
          </p:blipFill>
          <p:spPr>
            <a:xfrm>
              <a:off x="500040" y="1143000"/>
              <a:ext cx="8198640" cy="2731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82" name="Picture 33" descr=""/>
            <p:cNvPicPr/>
            <p:nvPr/>
          </p:nvPicPr>
          <p:blipFill>
            <a:blip r:embed="rId3"/>
            <a:stretch/>
          </p:blipFill>
          <p:spPr>
            <a:xfrm>
              <a:off x="500040" y="3874680"/>
              <a:ext cx="8215200" cy="255456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GyeongIn-Ara Waterwa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184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3"/>
          <p:cNvSpPr/>
          <p:nvPr/>
        </p:nvSpPr>
        <p:spPr>
          <a:xfrm>
            <a:off x="1699920" y="13572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옛체"/>
                <a:ea typeface="휴먼옛체"/>
              </a:rPr>
              <a:t>floodgate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4572000" cy="3857760"/>
          </a:xfrm>
          <a:prstGeom prst="rect">
            <a:avLst/>
          </a:prstGeom>
          <a:ln w="0">
            <a:noFill/>
          </a:ln>
        </p:spPr>
      </p:pic>
      <p:sp>
        <p:nvSpPr>
          <p:cNvPr id="187" name="직사각형 5"/>
          <p:cNvSpPr/>
          <p:nvPr/>
        </p:nvSpPr>
        <p:spPr>
          <a:xfrm>
            <a:off x="5747400" y="12142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옛체"/>
                <a:ea typeface="휴먼옛체"/>
              </a:rPr>
              <a:t>Traffic signal lamp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5667480" y="1857240"/>
            <a:ext cx="1576440" cy="3603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7453440" y="2000160"/>
            <a:ext cx="7617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GyeongIn-Ara Waterwa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191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sp>
        <p:nvSpPr>
          <p:cNvPr id="192" name="직사각형 5"/>
          <p:cNvSpPr/>
          <p:nvPr/>
        </p:nvSpPr>
        <p:spPr>
          <a:xfrm>
            <a:off x="5710320" y="1214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옛체"/>
                <a:ea typeface="휴먼옛체"/>
              </a:rPr>
              <a:t>Steel Buoys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714240" y="1143000"/>
            <a:ext cx="3071880" cy="5468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4500720" y="2000160"/>
            <a:ext cx="1780920" cy="34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4"/>
          <a:stretch/>
        </p:blipFill>
        <p:spPr>
          <a:xfrm>
            <a:off x="6643800" y="1928880"/>
            <a:ext cx="19335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GyeongIn-Ara Waterwa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197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sp>
        <p:nvSpPr>
          <p:cNvPr id="198" name="직사각형 5"/>
          <p:cNvSpPr/>
          <p:nvPr/>
        </p:nvSpPr>
        <p:spPr>
          <a:xfrm>
            <a:off x="6359400" y="1000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옛체"/>
                <a:ea typeface="휴먼옛체"/>
              </a:rPr>
              <a:t>Plastic Buoys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4786200" cy="4786200"/>
          </a:xfrm>
          <a:prstGeom prst="rect">
            <a:avLst/>
          </a:prstGeom>
          <a:ln w="0">
            <a:noFill/>
          </a:ln>
        </p:spPr>
      </p:pic>
      <p:sp>
        <p:nvSpPr>
          <p:cNvPr id="200" name="타원 8"/>
          <p:cNvSpPr/>
          <p:nvPr/>
        </p:nvSpPr>
        <p:spPr>
          <a:xfrm>
            <a:off x="4071960" y="1643040"/>
            <a:ext cx="428760" cy="5716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3"/>
          <a:stretch/>
        </p:blipFill>
        <p:spPr>
          <a:xfrm>
            <a:off x="5429160" y="1571760"/>
            <a:ext cx="3571920" cy="1595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4"/>
          <a:stretch/>
        </p:blipFill>
        <p:spPr>
          <a:xfrm>
            <a:off x="5429160" y="3143160"/>
            <a:ext cx="3571920" cy="1914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5"/>
          <a:stretch/>
        </p:blipFill>
        <p:spPr>
          <a:xfrm>
            <a:off x="6643800" y="5060880"/>
            <a:ext cx="1643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Plastic Buo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205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3" descr="가버링메시지부분 copy"/>
          <p:cNvPicPr/>
          <p:nvPr/>
        </p:nvPicPr>
        <p:blipFill>
          <a:blip r:embed="rId2"/>
          <a:srcRect l="0" t="52692" r="0" b="0"/>
          <a:stretch/>
        </p:blipFill>
        <p:spPr>
          <a:xfrm>
            <a:off x="297000" y="1247760"/>
            <a:ext cx="8534160" cy="17524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55"/>
          <p:cNvGrpSpPr/>
          <p:nvPr/>
        </p:nvGrpSpPr>
        <p:grpSpPr>
          <a:xfrm>
            <a:off x="250920" y="1081080"/>
            <a:ext cx="8655120" cy="536400"/>
            <a:chOff x="250920" y="1081080"/>
            <a:chExt cx="8655120" cy="536400"/>
          </a:xfrm>
        </p:grpSpPr>
        <p:pic>
          <p:nvPicPr>
            <p:cNvPr id="208" name="Picture 56" descr="바"/>
            <p:cNvPicPr/>
            <p:nvPr/>
          </p:nvPicPr>
          <p:blipFill>
            <a:blip r:embed="rId3"/>
            <a:srcRect l="1609" t="0" r="861" b="0"/>
            <a:stretch/>
          </p:blipFill>
          <p:spPr>
            <a:xfrm>
              <a:off x="250920" y="1081080"/>
              <a:ext cx="8655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57"/>
            <p:cNvSpPr/>
            <p:nvPr/>
          </p:nvSpPr>
          <p:spPr>
            <a:xfrm>
              <a:off x="1276560" y="1153800"/>
              <a:ext cx="2294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Plastic Buoy (PB-15)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10" name="Rectangle 83"/>
          <p:cNvSpPr/>
          <p:nvPr/>
        </p:nvSpPr>
        <p:spPr>
          <a:xfrm>
            <a:off x="755640" y="1711440"/>
            <a:ext cx="8064360" cy="8604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aterial : PE (Polyethylene)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otationall moulded UV-stabillised virgin PE float section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Foam Filling  : Expanded Polyurethane Foam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11" name="그림 34" descr="ALT1_분리.jpg"/>
          <p:cNvPicPr/>
          <p:nvPr/>
        </p:nvPicPr>
        <p:blipFill>
          <a:blip r:embed="rId4"/>
          <a:stretch/>
        </p:blipFill>
        <p:spPr>
          <a:xfrm>
            <a:off x="571680" y="3257640"/>
            <a:ext cx="2228760" cy="2736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12" name="그림 16" descr="ALT1_1.jpg"/>
          <p:cNvPicPr/>
          <p:nvPr/>
        </p:nvPicPr>
        <p:blipFill>
          <a:blip r:embed="rId5"/>
          <a:stretch/>
        </p:blipFill>
        <p:spPr>
          <a:xfrm>
            <a:off x="3000240" y="3257640"/>
            <a:ext cx="2230560" cy="2736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13" name="_x143916952" descr="EMB00000c806542"/>
          <p:cNvPicPr/>
          <p:nvPr/>
        </p:nvPicPr>
        <p:blipFill>
          <a:blip r:embed="rId6"/>
          <a:stretch/>
        </p:blipFill>
        <p:spPr>
          <a:xfrm>
            <a:off x="5643720" y="3114720"/>
            <a:ext cx="2857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Plastic Buo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215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가버링메시지부분 copy"/>
          <p:cNvPicPr/>
          <p:nvPr/>
        </p:nvPicPr>
        <p:blipFill>
          <a:blip r:embed="rId2"/>
          <a:srcRect l="0" t="52692" r="0" b="0"/>
          <a:stretch/>
        </p:blipFill>
        <p:spPr>
          <a:xfrm>
            <a:off x="297000" y="1247760"/>
            <a:ext cx="8534160" cy="28954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55"/>
          <p:cNvGrpSpPr/>
          <p:nvPr/>
        </p:nvGrpSpPr>
        <p:grpSpPr>
          <a:xfrm>
            <a:off x="250920" y="1081080"/>
            <a:ext cx="8655120" cy="536400"/>
            <a:chOff x="250920" y="1081080"/>
            <a:chExt cx="8655120" cy="536400"/>
          </a:xfrm>
        </p:grpSpPr>
        <p:pic>
          <p:nvPicPr>
            <p:cNvPr id="218" name="Picture 56" descr="바"/>
            <p:cNvPicPr/>
            <p:nvPr/>
          </p:nvPicPr>
          <p:blipFill>
            <a:blip r:embed="rId3"/>
            <a:srcRect l="1609" t="0" r="861" b="0"/>
            <a:stretch/>
          </p:blipFill>
          <p:spPr>
            <a:xfrm>
              <a:off x="250920" y="1081080"/>
              <a:ext cx="8655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57"/>
            <p:cNvSpPr/>
            <p:nvPr/>
          </p:nvSpPr>
          <p:spPr>
            <a:xfrm>
              <a:off x="1276560" y="1153800"/>
              <a:ext cx="2294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Plastic Buoy (PB-15)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20" name="Rectangle 83"/>
          <p:cNvSpPr/>
          <p:nvPr/>
        </p:nvSpPr>
        <p:spPr>
          <a:xfrm>
            <a:off x="755640" y="1711440"/>
            <a:ext cx="8064360" cy="20746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iameter : 1.5m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eight of Buoy : 2.6m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Weight : 312.3 kg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uoy body thickness : 12mm 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aximum current : 4Knots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aximum Water depth : 15m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ooring : Elastic mooring 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5143680" y="1785960"/>
            <a:ext cx="350028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23" name="_x147130592" descr="EMB00001d90b4b6"/>
          <p:cNvPicPr/>
          <p:nvPr/>
        </p:nvPicPr>
        <p:blipFill>
          <a:blip r:embed="rId5"/>
          <a:srcRect l="0" t="6555" r="0" b="26044"/>
          <a:stretch/>
        </p:blipFill>
        <p:spPr>
          <a:xfrm>
            <a:off x="857160" y="4071960"/>
            <a:ext cx="3929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Plastic Buo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225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5"/>
          <p:cNvGrpSpPr/>
          <p:nvPr/>
        </p:nvGrpSpPr>
        <p:grpSpPr>
          <a:xfrm>
            <a:off x="250920" y="1081080"/>
            <a:ext cx="8655120" cy="536400"/>
            <a:chOff x="250920" y="1081080"/>
            <a:chExt cx="8655120" cy="536400"/>
          </a:xfrm>
        </p:grpSpPr>
        <p:pic>
          <p:nvPicPr>
            <p:cNvPr id="227" name="Picture 56" descr="바"/>
            <p:cNvPicPr/>
            <p:nvPr/>
          </p:nvPicPr>
          <p:blipFill>
            <a:blip r:embed="rId2"/>
            <a:srcRect l="1609" t="0" r="861" b="0"/>
            <a:stretch/>
          </p:blipFill>
          <p:spPr>
            <a:xfrm>
              <a:off x="250920" y="1081080"/>
              <a:ext cx="8655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57"/>
            <p:cNvSpPr/>
            <p:nvPr/>
          </p:nvSpPr>
          <p:spPr>
            <a:xfrm>
              <a:off x="1248840" y="1153800"/>
              <a:ext cx="3580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Plastic Buoy Rotational Molding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2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30" name="Picture 3" descr="C:\DOCUME~1\ADMINI~1\LOCALS~1\Temp\Hnc\BinData\EMB00000c08224b.gif"/>
          <p:cNvPicPr/>
          <p:nvPr/>
        </p:nvPicPr>
        <p:blipFill>
          <a:blip r:embed="rId3"/>
          <a:stretch/>
        </p:blipFill>
        <p:spPr>
          <a:xfrm>
            <a:off x="3043080" y="1627200"/>
            <a:ext cx="2571840" cy="158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DOCUME~1\ADMINI~1\LOCALS~1\Temp\Hnc\BinData\EMB00000c08224c.gif"/>
          <p:cNvPicPr/>
          <p:nvPr/>
        </p:nvPicPr>
        <p:blipFill>
          <a:blip r:embed="rId4"/>
          <a:stretch/>
        </p:blipFill>
        <p:spPr>
          <a:xfrm>
            <a:off x="5857920" y="1690560"/>
            <a:ext cx="2693880" cy="1452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DOCUME~1\ADMINI~1\LOCALS~1\Temp\Hnc\BinData\EMB00000c08224a.gif"/>
          <p:cNvPicPr/>
          <p:nvPr/>
        </p:nvPicPr>
        <p:blipFill>
          <a:blip r:embed="rId5"/>
          <a:stretch/>
        </p:blipFill>
        <p:spPr>
          <a:xfrm>
            <a:off x="1000080" y="1571760"/>
            <a:ext cx="1800360" cy="1571400"/>
          </a:xfrm>
          <a:prstGeom prst="rect">
            <a:avLst/>
          </a:prstGeom>
          <a:ln w="0">
            <a:noFill/>
          </a:ln>
        </p:spPr>
      </p:pic>
      <p:sp>
        <p:nvSpPr>
          <p:cNvPr id="233" name="직사각형 9"/>
          <p:cNvSpPr/>
          <p:nvPr/>
        </p:nvSpPr>
        <p:spPr>
          <a:xfrm>
            <a:off x="785880" y="3143160"/>
            <a:ext cx="214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rst Stage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ading resin in the mold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34" name="직사각형 10"/>
          <p:cNvSpPr/>
          <p:nvPr/>
        </p:nvSpPr>
        <p:spPr>
          <a:xfrm>
            <a:off x="2857680" y="3143160"/>
            <a:ext cx="314316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cond Stage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ating and fusion of resin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35" name="직사각형 16"/>
          <p:cNvSpPr/>
          <p:nvPr/>
        </p:nvSpPr>
        <p:spPr>
          <a:xfrm>
            <a:off x="5929200" y="3143160"/>
            <a:ext cx="26434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ird Stage 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oling prior to unloading mold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36" name="Picture 3" descr="D:\연구활동\연구비관리\수행중\국토해양부\결과보고관련자료\제작과정 사진모음\제작과정\DSC02264.JPG"/>
          <p:cNvPicPr/>
          <p:nvPr/>
        </p:nvPicPr>
        <p:blipFill>
          <a:blip r:embed="rId6"/>
          <a:stretch/>
        </p:blipFill>
        <p:spPr>
          <a:xfrm>
            <a:off x="928800" y="5072040"/>
            <a:ext cx="2125440" cy="1593720"/>
          </a:xfrm>
          <a:prstGeom prst="rect">
            <a:avLst/>
          </a:prstGeom>
          <a:ln w="0">
            <a:noFill/>
          </a:ln>
        </p:spPr>
      </p:pic>
      <p:pic>
        <p:nvPicPr>
          <p:cNvPr id="237" name="_x112411336" descr="EMB000003ac1a19"/>
          <p:cNvPicPr/>
          <p:nvPr/>
        </p:nvPicPr>
        <p:blipFill>
          <a:blip r:embed="rId7"/>
          <a:stretch/>
        </p:blipFill>
        <p:spPr>
          <a:xfrm>
            <a:off x="928800" y="3786120"/>
            <a:ext cx="2143080" cy="1247760"/>
          </a:xfrm>
          <a:prstGeom prst="rect">
            <a:avLst/>
          </a:prstGeom>
          <a:ln w="0">
            <a:noFill/>
          </a:ln>
        </p:spPr>
      </p:pic>
      <p:pic>
        <p:nvPicPr>
          <p:cNvPr id="238" name="_x111907456" descr="EMB000003ac1a13"/>
          <p:cNvPicPr/>
          <p:nvPr/>
        </p:nvPicPr>
        <p:blipFill>
          <a:blip r:embed="rId8"/>
          <a:stretch/>
        </p:blipFill>
        <p:spPr>
          <a:xfrm>
            <a:off x="3357720" y="3786120"/>
            <a:ext cx="2428560" cy="128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D:\연구활동\연구비관리\수행중\국토해양부\결과보고관련자료\제작과정 사진모음\제작과정\DSC02331.JPG"/>
          <p:cNvPicPr/>
          <p:nvPr/>
        </p:nvPicPr>
        <p:blipFill>
          <a:blip r:embed="rId9"/>
          <a:stretch/>
        </p:blipFill>
        <p:spPr>
          <a:xfrm>
            <a:off x="6215040" y="5143680"/>
            <a:ext cx="2500200" cy="1500120"/>
          </a:xfrm>
          <a:prstGeom prst="rect">
            <a:avLst/>
          </a:prstGeom>
          <a:ln w="0">
            <a:noFill/>
          </a:ln>
        </p:spPr>
      </p:pic>
      <p:pic>
        <p:nvPicPr>
          <p:cNvPr id="240" name="_x112410936" descr="EMB000003ac1a17"/>
          <p:cNvPicPr/>
          <p:nvPr/>
        </p:nvPicPr>
        <p:blipFill>
          <a:blip r:embed="rId10"/>
          <a:stretch/>
        </p:blipFill>
        <p:spPr>
          <a:xfrm>
            <a:off x="3357720" y="5143680"/>
            <a:ext cx="2428560" cy="1500120"/>
          </a:xfrm>
          <a:prstGeom prst="rect">
            <a:avLst/>
          </a:prstGeom>
          <a:ln w="0">
            <a:noFill/>
          </a:ln>
        </p:spPr>
      </p:pic>
      <p:pic>
        <p:nvPicPr>
          <p:cNvPr id="241" name="_x111907456" descr="EMB000003ac1a14"/>
          <p:cNvPicPr/>
          <p:nvPr/>
        </p:nvPicPr>
        <p:blipFill>
          <a:blip r:embed="rId11"/>
          <a:stretch/>
        </p:blipFill>
        <p:spPr>
          <a:xfrm>
            <a:off x="6215040" y="3786120"/>
            <a:ext cx="2500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30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Plastic Buoy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243" name="Picture 20" descr="EMB00000e7855c6"/>
          <p:cNvPicPr/>
          <p:nvPr/>
        </p:nvPicPr>
        <p:blipFill>
          <a:blip r:embed="rId1"/>
          <a:stretch/>
        </p:blipFill>
        <p:spPr>
          <a:xfrm>
            <a:off x="0" y="0"/>
            <a:ext cx="755640" cy="86832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55"/>
          <p:cNvGrpSpPr/>
          <p:nvPr/>
        </p:nvGrpSpPr>
        <p:grpSpPr>
          <a:xfrm>
            <a:off x="250920" y="1081080"/>
            <a:ext cx="8655120" cy="536400"/>
            <a:chOff x="250920" y="1081080"/>
            <a:chExt cx="8655120" cy="536400"/>
          </a:xfrm>
        </p:grpSpPr>
        <p:pic>
          <p:nvPicPr>
            <p:cNvPr id="245" name="Picture 56" descr="바"/>
            <p:cNvPicPr/>
            <p:nvPr/>
          </p:nvPicPr>
          <p:blipFill>
            <a:blip r:embed="rId2"/>
            <a:srcRect l="1609" t="0" r="861" b="0"/>
            <a:stretch/>
          </p:blipFill>
          <p:spPr>
            <a:xfrm>
              <a:off x="250920" y="1081080"/>
              <a:ext cx="8655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57"/>
            <p:cNvSpPr/>
            <p:nvPr/>
          </p:nvSpPr>
          <p:spPr>
            <a:xfrm>
              <a:off x="1277280" y="1153800"/>
              <a:ext cx="31298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Installation of Plastic Buoys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48" name="Picture 2" descr="D:\작업1\EEP-18\경인아라뱃길 플라스틱등부표 관련자료\DSCN2831.JPG"/>
          <p:cNvPicPr/>
          <p:nvPr/>
        </p:nvPicPr>
        <p:blipFill>
          <a:blip r:embed="rId3"/>
          <a:stretch/>
        </p:blipFill>
        <p:spPr>
          <a:xfrm>
            <a:off x="428760" y="1785960"/>
            <a:ext cx="38574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작업1\EEP-18\경인아라뱃길 플라스틱등부표 관련자료\DSCN2873.JPG"/>
          <p:cNvPicPr/>
          <p:nvPr/>
        </p:nvPicPr>
        <p:blipFill>
          <a:blip r:embed="rId4"/>
          <a:stretch/>
        </p:blipFill>
        <p:spPr>
          <a:xfrm>
            <a:off x="4429080" y="1785960"/>
            <a:ext cx="2190960" cy="1928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D:\작업1\EEP-18\경인아라뱃길 플라스틱등부표 관련자료\DSCN2867.JPG"/>
          <p:cNvPicPr/>
          <p:nvPr/>
        </p:nvPicPr>
        <p:blipFill>
          <a:blip r:embed="rId5"/>
          <a:stretch/>
        </p:blipFill>
        <p:spPr>
          <a:xfrm>
            <a:off x="6715080" y="1785960"/>
            <a:ext cx="2190960" cy="19288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52" name="_x147130672" descr="EMB00001d90b4b8"/>
          <p:cNvPicPr/>
          <p:nvPr/>
        </p:nvPicPr>
        <p:blipFill>
          <a:blip r:embed="rId6"/>
          <a:srcRect l="13106" t="11081" r="22146" b="8852"/>
          <a:stretch/>
        </p:blipFill>
        <p:spPr>
          <a:xfrm>
            <a:off x="4429080" y="3857760"/>
            <a:ext cx="45007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1:12:24Z</dcterms:created>
  <dc:creator>jino</dc:creator>
  <dc:description/>
  <dc:language>en-US</dc:language>
  <cp:lastModifiedBy>Mike Hadley (Home)</cp:lastModifiedBy>
  <dcterms:modified xsi:type="dcterms:W3CDTF">2012-04-12T14:44:44Z</dcterms:modified>
  <cp:revision>555</cp:revision>
  <dc:subject/>
  <dc:title>슬라이드 1</dc:title>
</cp:coreProperties>
</file>